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BD7-6C1C-41EB-B79C-FF6BA89E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3D3-6ED1-498E-9AFB-700740D3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0B8-78A6-4D6D-9C23-29F8B1A8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962-CD2C-4484-9EC8-5F879FF1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BB78-5E1A-4842-B673-0F71A752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8DB-196C-4BA4-9C74-5D34939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2679-1D3E-4DEF-BEA1-89400F7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0AF5-DC1E-43DE-84DE-A94BA5A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9CF9-F2D5-481E-A014-49065BE3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ADB2-4313-4688-B25E-984F45A6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8338-908D-4887-B63A-D3A766D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E93-ED12-45DD-B56F-7453A86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08B4-75C6-4C6D-A15C-080F8FA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1F4C-6D9E-47F7-B47F-2638787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161-8BCD-44DA-A968-1199D46A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D637-804D-427E-BF02-B1FCF0FE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A308-F7B4-4DF0-AA04-906A76C0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C3EE-DA26-4DFB-8D90-1DC632D8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E543-B0B0-45DB-ADCA-5CD2A22E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D42B-D33C-4FA2-A816-1AADAD37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4470-BAFB-4C5A-B934-745C6FFF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C76A-223E-4435-A331-76A478A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C83-D602-4EE3-B264-BA0F291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ADD4-CE1C-4DBF-89AD-7EAF798B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7864-359B-4FE8-B8D9-0B21E91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AB79-A061-49F9-80E2-3C66D55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1438-8444-4264-8B51-D7B9EB2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EEF8-C4A7-430B-9D61-7066042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9D4C-F3E0-4F66-B509-F175D1C9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4C85-B32B-4713-8278-ED918BCD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867D-B886-4B1D-B184-95997FF1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D4DC-AF7F-4096-95AF-B942C13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4547-0D32-45D2-9804-09BF563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1FA-48C4-468E-BD72-00AC218F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5953-7AD0-45AE-A6F6-67859A5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9020-96B3-4DF5-9693-5970E2DE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172E-EB76-4A2B-BA17-C801A3EF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F6A6-3DB1-4302-A9EF-90A0903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47BF-B19A-49EC-880B-5CA1E32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C56A-FC44-418D-81CD-052F610B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D38F-6E6F-4C5F-A1E4-EC2CAD51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75E3-C10B-4C99-9007-E6191404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3B10-1410-43D7-A833-BE9FE22F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D14-33B5-48BD-91BD-D3A1474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B9D-EE2A-48A7-8D14-74CF1840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02C-7FDA-435A-BA5A-4C1ADD8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179-FA07-4F59-87BC-680E189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413-2649-4E4E-821E-E6BF12A3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B77-CB2F-4EC4-A6E9-9DE66356D3BA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7E8-2932-4338-B7BC-B023A2195CFA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1380-6EE0-4DBC-91D5-93254D4B5DDC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808-1184-4BC2-93DB-D17744896F4F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826400" cy="445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856476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90946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8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akak.ru/recipes/pictures/000/016/005_big.jpg"/>
          <p:cNvPicPr/>
          <p:nvPr/>
        </p:nvPicPr>
        <p:blipFill>
          <a:blip r:embed="rId1"/>
          <a:stretch/>
        </p:blipFill>
        <p:spPr>
          <a:xfrm>
            <a:off x="714240" y="571680"/>
            <a:ext cx="776304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14640" y="500040"/>
            <a:ext cx="3822480" cy="58644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718000" y="571680"/>
            <a:ext cx="4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60560" y="121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074760" y="1785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86056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575800" y="3071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071880" y="364320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27176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699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56440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92160" y="1494000"/>
            <a:ext cx="86500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66640" y="4668840"/>
            <a:ext cx="8315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http://festival.1september.ru/articles/527951/img2.jpg"/>
          <p:cNvPicPr/>
          <p:nvPr/>
        </p:nvPicPr>
        <p:blipFill>
          <a:blip r:embed="rId2"/>
          <a:stretch/>
        </p:blipFill>
        <p:spPr>
          <a:xfrm>
            <a:off x="1785960" y="114300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C:\Users\Android\Desktop\Scan2.jpg"/>
          <p:cNvPicPr/>
          <p:nvPr/>
        </p:nvPicPr>
        <p:blipFill>
          <a:blip r:embed="rId1"/>
          <a:stretch/>
        </p:blipFill>
        <p:spPr>
          <a:xfrm>
            <a:off x="231840" y="785880"/>
            <a:ext cx="4254480" cy="485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droid\Desktop\Scan3.jpg"/>
          <p:cNvPicPr/>
          <p:nvPr/>
        </p:nvPicPr>
        <p:blipFill>
          <a:blip r:embed="rId2"/>
          <a:stretch/>
        </p:blipFill>
        <p:spPr>
          <a:xfrm>
            <a:off x="4572000" y="785880"/>
            <a:ext cx="4294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71424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ru-RU" sz="4800" spc="-1" strike="noStrike">
                <a:solidFill>
                  <a:srgbClr val="6aa62d"/>
                </a:solidFill>
                <a:latin typeface="Constantia"/>
              </a:rPr>
              <a:t>Й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ь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079800" y="22860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ьпан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397160"/>
          <a:ext cx="6096240" cy="384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щ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321400" cy="22370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432800" y="300024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2109"/>
                </a:solidFill>
                <a:latin typeface="Arial"/>
              </a:rPr>
              <a:t>В цветнике цветут цветы.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pic>
        <p:nvPicPr>
          <p:cNvPr id="204" name="Picture 2" descr="http://www.sadcvetov.ru/uploads/posts/2009-01/1231726369_cvetnik2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-560520"/>
            <a:ext cx="8321760" cy="2413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257184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белой шапке стоит дед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дунеш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– шапки нет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65160"/>
            <a:ext cx="4840560" cy="3444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286000" y="714240"/>
            <a:ext cx="5072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йди по зелёному лугу, увидишь ты скромный цвето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удь осторожен: он ядовит и очень жесток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00Z</dcterms:created>
  <dc:creator>ToHa</dc:creator>
  <dc:description/>
  <dc:language>en-US</dc:language>
  <cp:lastModifiedBy>Мама</cp:lastModifiedBy>
  <dcterms:modified xsi:type="dcterms:W3CDTF">2014-12-07T10:54:39Z</dcterms:modified>
  <cp:revision>54</cp:revision>
  <dc:subject/>
  <dc:title>Дифференциация У-Ю</dc:title>
</cp:coreProperties>
</file>